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5D9-47E4-4BBC-A6D4-1B5E5C0A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7FF-6D64-4119-80EF-2EA0638E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EBA-4E64-4D98-A283-216527C7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A2D-3BBD-422B-878C-5ACF4554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EAD8F-09EE-48C2-855E-1C6134BA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E9F22-F7F0-4923-BBCF-5676FAA3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FB494-5D81-4B84-8876-FF821D1D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CCB67-E7B5-409F-B55C-D4378A99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3617A-FF20-4306-83BA-D0D48342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8A67A-EFB2-453C-A92C-C4CD7157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7C28C-6E66-4DC1-9CF3-119C9B4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A1D-2400-4109-925C-F3CE8087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A48AE-FE9E-4C83-86AA-91CB19D8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5D83E-0225-436E-B2EC-8C65377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C3F85-A704-4B0C-83F0-38F03CE1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29E4E-22E8-40B4-9BE8-DCF9ACAB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8FC48-37F6-4152-8C13-2A841EF3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DBA-DB87-4754-B70C-3006AEF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925-973A-4451-AB08-ACA8D497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532-9AF0-4746-8F97-04B4F66F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7C9-00B4-4039-8D05-C1F19304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B7E-4B9E-494A-BEBC-D5A0FA78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0E9-BEF4-4088-B0EC-F977D71B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770-6DC6-4CA0-A141-9094817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C6A6-D9CC-4ED5-A4D9-075BAB6F8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7A2D-1A04-4B5B-8A66-8F3381A18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tis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x Kingd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tis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iver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ing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lant-li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nimal-li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gus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ve to live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oi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nviro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ukaryot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unicell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ome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ulticellu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th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tozo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rotozoa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nimal-like protists that are typic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athogen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lud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moeb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lagellat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iliates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porozo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porozoans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asitic protist that produces a spore (ex.  Plasmodium that causes malari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ers are Classified by how they mov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Amoebas-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e by pseudopodia (arm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Flagellate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move by flagellum (whip-like tail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iliates-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e by cilia (tiny hai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300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gae:  Plant-Like Proti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s include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ed alga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brown algae, green algae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atom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euglenoids, and dinoflagell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fied b/c they a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duc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noflagella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cause the kille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ed tid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destroys areas of the marine eco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een algae-may be classified in the plantae kingdom so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oothpas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hicken commercial ice crea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gus-like Proti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compo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s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lime mol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er molds/downy mild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2781360" cy="1843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8680" y="3581280"/>
            <a:ext cx="266724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ortance of Proti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ists are believed to perhaps be ancestral to many plant, animal, and fungal species on eart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cient green algae and modern plants have the same type of chlorophyll in their cell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42:45Z</dcterms:created>
  <dc:creator>kmcgrady</dc:creator>
  <dc:description/>
  <dc:language>en-US</dc:language>
  <cp:lastModifiedBy>kmcgrady</cp:lastModifiedBy>
  <dcterms:modified xsi:type="dcterms:W3CDTF">2010-09-28T15:08:23Z</dcterms:modified>
  <cp:revision>2</cp:revision>
  <dc:subject/>
  <dc:title>Protista</dc:title>
</cp:coreProperties>
</file>